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CCC-BBAE-4549-9327-2357942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07D-9BA4-46DB-B00C-92444AB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147-0BF9-48E5-9EB8-6ED0F70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118-5DB5-46D1-AF3C-978F11F8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E08E-3A42-4263-96EC-8FB6E67E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5CD-02C4-4052-834C-0BBE3A0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8A8-6CA8-4770-BA66-7A489E1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CCA-6B23-4B58-9006-825CD44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B6D-FA82-4432-ABBC-55E4E2C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634-F7A0-497B-B0B8-595B4C8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D1CE-C0D3-4079-B09E-7A5D42B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574-802D-4550-99BF-0846C878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E950-DEC6-4E38-85F8-6FB7A5D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BC51-B8E0-42EC-946C-BBAA4A3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AD88-B6D7-469F-8404-D28BB540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4999-C4F9-47F9-9D66-D011053B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8525-53D2-4420-9DC5-2DAC5FF7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13E-3C50-431C-9C50-10C0DA88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246-A32A-4461-8B2F-5FFC95C9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D01-B173-439C-B52C-2E8CA89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176-FE24-4727-ADA0-FB227127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279-4086-45D4-B92B-A8C6EC4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116-EFA8-4B19-BE1A-2D3C2FF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749-8331-4A0F-9BB3-5B7F65D3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38E-CEBE-47DF-A443-B5CDB828D2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14DD-3F11-4AAD-A9BF-3C7340FDBB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gradFill rotWithShape="0">
            <a:gsLst>
              <a:gs pos="0">
                <a:srgbClr val="0fffbc">
                  <a:alpha val="75294"/>
                </a:srgbClr>
              </a:gs>
              <a:gs pos="50000">
                <a:srgbClr val="078663">
                  <a:alpha val="75294"/>
                </a:srgbClr>
              </a:gs>
              <a:gs pos="100000">
                <a:srgbClr val="0fffbc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6858000" y="5334120"/>
            <a:ext cx="2209680" cy="685800"/>
          </a:xfrm>
          <a:custGeom>
            <a:avLst/>
            <a:gdLst>
              <a:gd name="textAreaLeft" fmla="*/ 79200 w 2209680"/>
              <a:gd name="textAreaRight" fmla="*/ 2130480 w 220968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69571" h="21600">
                <a:moveTo>
                  <a:pt x="0" y="0"/>
                </a:moveTo>
                <a:lnTo>
                  <a:pt x="69571" y="0"/>
                </a:lnTo>
                <a:lnTo>
                  <a:pt x="69571" y="21600"/>
                </a:lnTo>
                <a:lnTo>
                  <a:pt x="0" y="21600"/>
                </a:lnTo>
                <a:close/>
              </a:path>
              <a:path fill="lightenLess" w="69571" h="21600">
                <a:moveTo>
                  <a:pt x="0" y="0"/>
                </a:moveTo>
                <a:lnTo>
                  <a:pt x="69571" y="0"/>
                </a:lnTo>
                <a:lnTo>
                  <a:pt x="67071" y="2500"/>
                </a:lnTo>
                <a:lnTo>
                  <a:pt x="2500" y="2500"/>
                </a:lnTo>
                <a:close/>
              </a:path>
              <a:path fill="darken" w="69571" h="21600">
                <a:moveTo>
                  <a:pt x="69571" y="0"/>
                </a:moveTo>
                <a:lnTo>
                  <a:pt x="69571" y="21600"/>
                </a:lnTo>
                <a:lnTo>
                  <a:pt x="67071" y="19100"/>
                </a:lnTo>
                <a:lnTo>
                  <a:pt x="67071" y="2500"/>
                </a:lnTo>
                <a:close/>
              </a:path>
              <a:path fill="darkenLess" w="69571" h="21600">
                <a:moveTo>
                  <a:pt x="69571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7071" y="19100"/>
                </a:lnTo>
                <a:close/>
              </a:path>
              <a:path fill="lighten" w="69571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gradFill rotWithShape="0">
            <a:gsLst>
              <a:gs pos="0">
                <a:srgbClr val="fff966">
                  <a:alpha val="75294"/>
                </a:srgbClr>
              </a:gs>
              <a:gs pos="50000">
                <a:srgbClr val="75722f">
                  <a:alpha val="75294"/>
                </a:srgbClr>
              </a:gs>
              <a:gs pos="100000">
                <a:srgbClr val="fff96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0" y="1600200"/>
            <a:ext cx="1017360" cy="609480"/>
          </a:xfrm>
          <a:custGeom>
            <a:avLst/>
            <a:gdLst>
              <a:gd name="textAreaLeft" fmla="*/ 61920 w 1017360"/>
              <a:gd name="textAreaRight" fmla="*/ 955440 w 10173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36047" h="21600">
                <a:moveTo>
                  <a:pt x="0" y="0"/>
                </a:moveTo>
                <a:lnTo>
                  <a:pt x="36047" y="0"/>
                </a:lnTo>
                <a:lnTo>
                  <a:pt x="36047" y="21600"/>
                </a:lnTo>
                <a:lnTo>
                  <a:pt x="0" y="21600"/>
                </a:lnTo>
                <a:close/>
              </a:path>
              <a:path fill="lightenLess" w="36047" h="21600">
                <a:moveTo>
                  <a:pt x="0" y="0"/>
                </a:moveTo>
                <a:lnTo>
                  <a:pt x="36047" y="0"/>
                </a:lnTo>
                <a:lnTo>
                  <a:pt x="33853" y="2194"/>
                </a:lnTo>
                <a:lnTo>
                  <a:pt x="2194" y="2194"/>
                </a:lnTo>
                <a:close/>
              </a:path>
              <a:path fill="darken" w="36047" h="21600">
                <a:moveTo>
                  <a:pt x="36047" y="0"/>
                </a:moveTo>
                <a:lnTo>
                  <a:pt x="36047" y="21600"/>
                </a:lnTo>
                <a:lnTo>
                  <a:pt x="33853" y="19406"/>
                </a:lnTo>
                <a:lnTo>
                  <a:pt x="33853" y="2194"/>
                </a:lnTo>
                <a:close/>
              </a:path>
              <a:path fill="darkenLess" w="36047" h="21600">
                <a:moveTo>
                  <a:pt x="36047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3853" y="19406"/>
                </a:lnTo>
                <a:close/>
              </a:path>
              <a:path fill="lighten" w="36047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7315200" y="1066680"/>
            <a:ext cx="1676520" cy="457200"/>
          </a:xfrm>
          <a:custGeom>
            <a:avLst/>
            <a:gdLst>
              <a:gd name="textAreaLeft" fmla="*/ 45360 w 1676520"/>
              <a:gd name="textAreaRight" fmla="*/ 1631160 w 1676520"/>
              <a:gd name="textAreaTop" fmla="*/ 45360 h 457200"/>
              <a:gd name="textAreaBottom" fmla="*/ 41184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010" y="2150"/>
                </a:lnTo>
                <a:lnTo>
                  <a:pt x="2150" y="21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010" y="19450"/>
                </a:lnTo>
                <a:lnTo>
                  <a:pt x="77010" y="21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77010" y="194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576440"/>
            <a:ext cx="1652760" cy="685800"/>
          </a:xfrm>
          <a:custGeom>
            <a:avLst/>
            <a:gdLst>
              <a:gd name="textAreaLeft" fmla="*/ 68040 w 1652760"/>
              <a:gd name="textAreaRight" fmla="*/ 1584720 w 165276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52039" h="21600">
                <a:moveTo>
                  <a:pt x="0" y="0"/>
                </a:moveTo>
                <a:lnTo>
                  <a:pt x="52039" y="0"/>
                </a:lnTo>
                <a:lnTo>
                  <a:pt x="52039" y="21600"/>
                </a:lnTo>
                <a:lnTo>
                  <a:pt x="0" y="21600"/>
                </a:lnTo>
                <a:close/>
              </a:path>
              <a:path fill="lightenLess" w="52039" h="21600">
                <a:moveTo>
                  <a:pt x="0" y="0"/>
                </a:moveTo>
                <a:lnTo>
                  <a:pt x="52039" y="0"/>
                </a:lnTo>
                <a:lnTo>
                  <a:pt x="49890" y="2150"/>
                </a:lnTo>
                <a:lnTo>
                  <a:pt x="2150" y="2150"/>
                </a:lnTo>
                <a:close/>
              </a:path>
              <a:path fill="darken" w="52039" h="21600">
                <a:moveTo>
                  <a:pt x="52039" y="0"/>
                </a:moveTo>
                <a:lnTo>
                  <a:pt x="52039" y="21600"/>
                </a:lnTo>
                <a:lnTo>
                  <a:pt x="49890" y="19450"/>
                </a:lnTo>
                <a:lnTo>
                  <a:pt x="49890" y="2150"/>
                </a:lnTo>
                <a:close/>
              </a:path>
              <a:path fill="darkenLess" w="52039" h="21600">
                <a:moveTo>
                  <a:pt x="52039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9890" y="19450"/>
                </a:lnTo>
                <a:close/>
              </a:path>
              <a:path fill="lighten" w="52039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2cbf0f">
                  <a:alpha val="75294"/>
                </a:srgbClr>
              </a:gs>
              <a:gs pos="50000">
                <a:srgbClr val="145806">
                  <a:alpha val="75294"/>
                </a:srgbClr>
              </a:gs>
              <a:gs pos="100000">
                <a:srgbClr val="2cbf0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ol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38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7162920" y="1066680"/>
            <a:ext cx="1981080" cy="609840"/>
          </a:xfrm>
          <a:custGeom>
            <a:avLst/>
            <a:gdLst>
              <a:gd name="textAreaLeft" fmla="*/ 36360 w 1981080"/>
              <a:gd name="textAreaRight" fmla="*/ 1944720 w 1981080"/>
              <a:gd name="textAreaTop" fmla="*/ 36360 h 609840"/>
              <a:gd name="textAreaBottom" fmla="*/ 57348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846" y="1294"/>
                </a:lnTo>
                <a:lnTo>
                  <a:pt x="1294" y="1294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846" y="20306"/>
                </a:lnTo>
                <a:lnTo>
                  <a:pt x="68846" y="1294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294" y="20306"/>
                </a:lnTo>
                <a:lnTo>
                  <a:pt x="68846" y="20306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294" y="1294"/>
                </a:lnTo>
                <a:lnTo>
                  <a:pt x="1294" y="203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76320" y="1066680"/>
            <a:ext cx="990360" cy="457200"/>
          </a:xfrm>
          <a:custGeom>
            <a:avLst/>
            <a:gdLst>
              <a:gd name="textAreaLeft" fmla="*/ 43560 w 990360"/>
              <a:gd name="textAreaRight" fmla="*/ 946800 w 990360"/>
              <a:gd name="textAreaTop" fmla="*/ 43560 h 457200"/>
              <a:gd name="textAreaBottom" fmla="*/ 41364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4712" y="2057"/>
                </a:lnTo>
                <a:lnTo>
                  <a:pt x="2057" y="2057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4712" y="19543"/>
                </a:lnTo>
                <a:lnTo>
                  <a:pt x="44712" y="2057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2057" y="19543"/>
                </a:lnTo>
                <a:lnTo>
                  <a:pt x="44712" y="19543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2057" y="2057"/>
                </a:lnTo>
                <a:lnTo>
                  <a:pt x="2057" y="19543"/>
                </a:lnTo>
                <a:close/>
              </a:path>
            </a:pathLst>
          </a:custGeom>
          <a:gradFill rotWithShape="0">
            <a:gsLst>
              <a:gs pos="0">
                <a:srgbClr val="ff0903">
                  <a:alpha val="75294"/>
                </a:srgbClr>
              </a:gs>
              <a:gs pos="50000">
                <a:srgbClr val="750401">
                  <a:alpha val="75294"/>
                </a:srgbClr>
              </a:gs>
              <a:gs pos="100000">
                <a:srgbClr val="ff0903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990720"/>
            <a:ext cx="1752840" cy="533160"/>
          </a:xfrm>
          <a:custGeom>
            <a:avLst/>
            <a:gdLst>
              <a:gd name="textAreaLeft" fmla="*/ 52920 w 1752840"/>
              <a:gd name="textAreaRight" fmla="*/ 1699920 w 1752840"/>
              <a:gd name="textAreaTop" fmla="*/ 52920 h 533160"/>
              <a:gd name="textAreaBottom" fmla="*/ 480240 h 533160"/>
            </a:gdLst>
            <a:ahLst/>
            <a:rect l="textAreaLeft" t="textAreaTop" r="textAreaRight" b="textAreaBottom"/>
            <a:pathLst>
              <a:path w="70980" h="21600">
                <a:moveTo>
                  <a:pt x="0" y="0"/>
                </a:moveTo>
                <a:lnTo>
                  <a:pt x="70980" y="0"/>
                </a:lnTo>
                <a:lnTo>
                  <a:pt x="70980" y="21600"/>
                </a:lnTo>
                <a:lnTo>
                  <a:pt x="0" y="21600"/>
                </a:lnTo>
                <a:close/>
              </a:path>
              <a:path fill="lightenLess" w="70980" h="21600">
                <a:moveTo>
                  <a:pt x="0" y="0"/>
                </a:moveTo>
                <a:lnTo>
                  <a:pt x="70980" y="0"/>
                </a:lnTo>
                <a:lnTo>
                  <a:pt x="68830" y="2150"/>
                </a:lnTo>
                <a:lnTo>
                  <a:pt x="2150" y="2150"/>
                </a:lnTo>
                <a:close/>
              </a:path>
              <a:path fill="darken" w="70980" h="21600">
                <a:moveTo>
                  <a:pt x="70980" y="0"/>
                </a:moveTo>
                <a:lnTo>
                  <a:pt x="70980" y="21600"/>
                </a:lnTo>
                <a:lnTo>
                  <a:pt x="68830" y="19450"/>
                </a:lnTo>
                <a:lnTo>
                  <a:pt x="68830" y="2150"/>
                </a:lnTo>
                <a:close/>
              </a:path>
              <a:path fill="darkenLess" w="70980" h="21600">
                <a:moveTo>
                  <a:pt x="70980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8830" y="19450"/>
                </a:lnTo>
                <a:close/>
              </a:path>
              <a:path fill="lighten" w="70980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ffb706">
                  <a:alpha val="75294"/>
                </a:srgbClr>
              </a:gs>
              <a:gs pos="50000">
                <a:srgbClr val="8b6403">
                  <a:alpha val="75294"/>
                </a:srgbClr>
              </a:gs>
              <a:gs pos="100000">
                <a:srgbClr val="ffb706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0" y="1600200"/>
            <a:ext cx="1017360" cy="762120"/>
          </a:xfrm>
          <a:custGeom>
            <a:avLst/>
            <a:gdLst>
              <a:gd name="textAreaLeft" fmla="*/ 72720 w 1017360"/>
              <a:gd name="textAreaRight" fmla="*/ 944640 w 101736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31" h="21600">
                <a:moveTo>
                  <a:pt x="0" y="0"/>
                </a:moveTo>
                <a:lnTo>
                  <a:pt x="28831" y="0"/>
                </a:lnTo>
                <a:lnTo>
                  <a:pt x="28831" y="21600"/>
                </a:lnTo>
                <a:lnTo>
                  <a:pt x="0" y="21600"/>
                </a:lnTo>
                <a:close/>
              </a:path>
              <a:path fill="lightenLess" w="28831" h="21600">
                <a:moveTo>
                  <a:pt x="0" y="0"/>
                </a:moveTo>
                <a:lnTo>
                  <a:pt x="28831" y="0"/>
                </a:lnTo>
                <a:lnTo>
                  <a:pt x="26761" y="2070"/>
                </a:lnTo>
                <a:lnTo>
                  <a:pt x="2070" y="2070"/>
                </a:lnTo>
                <a:close/>
              </a:path>
              <a:path fill="darken" w="28831" h="21600">
                <a:moveTo>
                  <a:pt x="28831" y="0"/>
                </a:moveTo>
                <a:lnTo>
                  <a:pt x="28831" y="21600"/>
                </a:lnTo>
                <a:lnTo>
                  <a:pt x="26761" y="19530"/>
                </a:lnTo>
                <a:lnTo>
                  <a:pt x="26761" y="2070"/>
                </a:lnTo>
                <a:close/>
              </a:path>
              <a:path fill="darkenLess" w="28831" h="21600">
                <a:moveTo>
                  <a:pt x="2883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61" y="19530"/>
                </a:lnTo>
                <a:close/>
              </a:path>
              <a:path fill="lighten" w="2883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ple Equation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309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80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80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334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572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1752480" cy="838440"/>
          </a:xfrm>
          <a:custGeom>
            <a:avLst/>
            <a:gdLst>
              <a:gd name="textAreaLeft" fmla="*/ 77760 w 1752480"/>
              <a:gd name="textAreaRight" fmla="*/ 1674720 w 1752480"/>
              <a:gd name="textAreaTop" fmla="*/ 77760 h 838440"/>
              <a:gd name="textAreaBottom" fmla="*/ 7606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133" y="2005"/>
                </a:lnTo>
                <a:lnTo>
                  <a:pt x="2005" y="2005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133" y="19595"/>
                </a:lnTo>
                <a:lnTo>
                  <a:pt x="43133" y="2005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2005" y="19595"/>
                </a:lnTo>
                <a:lnTo>
                  <a:pt x="43133" y="19595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2005" y="2005"/>
                </a:lnTo>
                <a:lnTo>
                  <a:pt x="2005" y="19595"/>
                </a:lnTo>
                <a:close/>
              </a:path>
            </a:pathLst>
          </a:custGeom>
          <a:gradFill rotWithShape="0">
            <a:gsLst>
              <a:gs pos="0">
                <a:srgbClr val="bf0002">
                  <a:alpha val="75294"/>
                </a:srgbClr>
              </a:gs>
              <a:gs pos="100000">
                <a:srgbClr val="580000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143000"/>
            <a:ext cx="1523880" cy="685800"/>
          </a:xfrm>
          <a:custGeom>
            <a:avLst/>
            <a:gdLst>
              <a:gd name="textAreaLeft" fmla="*/ 68040 w 1523880"/>
              <a:gd name="textAreaRight" fmla="*/ 1455840 w 152388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5832" y="2150"/>
                </a:lnTo>
                <a:lnTo>
                  <a:pt x="2150" y="215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5832" y="19450"/>
                </a:lnTo>
                <a:lnTo>
                  <a:pt x="45832" y="215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45832" y="1945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gradFill rotWithShape="0">
            <a:gsLst>
              <a:gs pos="0">
                <a:srgbClr val="bf1bb2">
                  <a:alpha val="75294"/>
                </a:srgbClr>
              </a:gs>
              <a:gs pos="100000">
                <a:srgbClr val="580c52">
                  <a:alpha val="7529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638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x=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x=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930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x=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029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x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x=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enthesis Answer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914400"/>
            <a:ext cx="2361960" cy="609480"/>
          </a:xfrm>
          <a:custGeom>
            <a:avLst/>
            <a:gdLst>
              <a:gd name="textAreaLeft" fmla="*/ 61920 w 2361960"/>
              <a:gd name="textAreaRight" fmla="*/ 2300040 w 2361960"/>
              <a:gd name="textAreaTop" fmla="*/ 61920 h 609480"/>
              <a:gd name="textAreaBottom" fmla="*/ 547560 h 609480"/>
            </a:gdLst>
            <a:ahLst/>
            <a:rect l="textAreaLeft" t="textAreaTop" r="textAreaRight" b="textAreaBottom"/>
            <a:pathLst>
              <a:path w="83671" h="21600">
                <a:moveTo>
                  <a:pt x="0" y="0"/>
                </a:moveTo>
                <a:lnTo>
                  <a:pt x="83671" y="0"/>
                </a:lnTo>
                <a:lnTo>
                  <a:pt x="83671" y="21600"/>
                </a:lnTo>
                <a:lnTo>
                  <a:pt x="0" y="21600"/>
                </a:lnTo>
                <a:close/>
              </a:path>
              <a:path fill="lightenLess" w="83671" h="21600">
                <a:moveTo>
                  <a:pt x="0" y="0"/>
                </a:moveTo>
                <a:lnTo>
                  <a:pt x="83671" y="0"/>
                </a:lnTo>
                <a:lnTo>
                  <a:pt x="81477" y="2194"/>
                </a:lnTo>
                <a:lnTo>
                  <a:pt x="2194" y="2194"/>
                </a:lnTo>
                <a:close/>
              </a:path>
              <a:path fill="darken" w="83671" h="21600">
                <a:moveTo>
                  <a:pt x="83671" y="0"/>
                </a:moveTo>
                <a:lnTo>
                  <a:pt x="83671" y="21600"/>
                </a:lnTo>
                <a:lnTo>
                  <a:pt x="81477" y="19406"/>
                </a:lnTo>
                <a:lnTo>
                  <a:pt x="81477" y="2194"/>
                </a:lnTo>
                <a:close/>
              </a:path>
              <a:path fill="darkenLess" w="83671" h="21600">
                <a:moveTo>
                  <a:pt x="83671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81477" y="19406"/>
                </a:lnTo>
                <a:close/>
              </a:path>
              <a:path fill="lighten" w="83671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75294"/>
                </a:srgbClr>
              </a:gs>
              <a:gs pos="50000">
                <a:srgbClr val="757575">
                  <a:alpha val="75294"/>
                </a:srgbClr>
              </a:gs>
              <a:gs pos="100000">
                <a:srgbClr val="ffffff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to 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2:36Z</dcterms:created>
  <dc:creator>Northmont City Schools</dc:creator>
  <dc:description/>
  <dc:language>en-US</dc:language>
  <cp:lastModifiedBy>Northmont City Schools</cp:lastModifiedBy>
  <dcterms:modified xsi:type="dcterms:W3CDTF">2010-03-24T13:53:09Z</dcterms:modified>
  <cp:revision>14</cp:revision>
  <dc:subject/>
  <dc:title>Algebra Equations</dc:title>
</cp:coreProperties>
</file>